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21.wmf" ContentType="image/x-wmf"/>
  <Override PartName="/ppt/media/image23.wmf" ContentType="image/x-wmf"/>
  <Override PartName="/ppt/media/whoosh.wav" ContentType="audio/x-wav"/>
  <Override PartName="/ppt/media/image22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8.png" ContentType="image/png"/>
  <Override PartName="/ppt/media/carbrake.wav" ContentType="audio/x-wav"/>
  <Override PartName="/ppt/media/image16.wmf" ContentType="image/x-wmf"/>
  <Override PartName="/ppt/media/image25.wmf" ContentType="image/x-wmf"/>
  <Override PartName="/ppt/media/image2.wmf" ContentType="image/x-wmf"/>
  <Override PartName="/ppt/media/image9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.wmf" ContentType="image/x-wmf"/>
  <Override PartName="/ppt/media/image29.jpeg" ContentType="image/jpeg"/>
  <Override PartName="/ppt/media/image13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1.wmf" ContentType="image/x-wmf"/>
  <Override PartName="/ppt/media/camera.wav" ContentType="audio/x-wav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1DE-05A1-490A-B565-675B9591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C6C-641F-48F3-9639-C724478B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661-9466-4732-AF8D-DA527C15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B76-1F67-436B-9878-6DBF347B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60B1-2C99-4072-80F0-3CAE224A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5DEA-15E6-4616-9C5C-C3E0BD5F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D713-0624-4CB0-8ECC-0B7F94A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59B2-B34C-4132-932A-A07B2F40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C4C5-9324-4E0C-8D2D-B3B63E77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BA87-A800-4800-95AB-FFF7D8DB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AF7C-41C2-443E-B186-A5BED81F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0A0-5B0D-44BC-8120-678648FC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EBE3-6B05-416F-97F0-AC545E57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F8BD-4005-4FD4-9BE7-7E8879E7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FEB4-7E93-4914-9211-4CC58B0C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06FC-E6A8-4E06-A758-4AA043E9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6F22-DAD8-4599-9595-F1C38FBC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39C-D150-46C1-A0CC-134C95D8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D81-809B-4D21-AF2E-13A39751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01A-351E-4B6B-A987-3E5B06A6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77D-41A3-4586-AE20-AB5065DB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AA3-8C65-497B-A35A-9FF3F6B8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B30-F698-4CE2-93C4-84BBB4A3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881-DBBB-461D-86B5-C3B089E5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ABF3-35C3-440D-A9C5-7FA8723513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409-B652-4498-9768-D63F224197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laser.wav" TargetMode="External"/><Relationship Id="rId2" Type="http://schemas.microsoft.com/office/2007/relationships/media" Target="file:///usr/lib/libreoffice/share/gallery/sounds/laser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now we’ve talked about actions that happen in the present, that happen on a regular basis, or that are happening right now.  These verbs ar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mple pres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sent progressi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5" descr="bd06811_"/>
          <p:cNvPicPr/>
          <p:nvPr/>
        </p:nvPicPr>
        <p:blipFill>
          <a:blip r:embed="rId1"/>
          <a:stretch/>
        </p:blipFill>
        <p:spPr>
          <a:xfrm>
            <a:off x="1484280" y="2362320"/>
            <a:ext cx="198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now, a few trickier one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c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5" descr="pe02716_"/>
          <p:cNvPicPr/>
          <p:nvPr/>
        </p:nvPicPr>
        <p:blipFill>
          <a:blip r:embed="rId1"/>
          <a:stretch/>
        </p:blipFill>
        <p:spPr>
          <a:xfrm>
            <a:off x="1371600" y="2438280"/>
            <a:ext cx="28195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c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9532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saq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c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q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’s a spelling change to retain the original pronunc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5" descr="pe02716_"/>
          <p:cNvPicPr/>
          <p:nvPr/>
        </p:nvPicPr>
        <p:blipFill>
          <a:blip r:embed="rId1"/>
          <a:stretch/>
        </p:blipFill>
        <p:spPr>
          <a:xfrm>
            <a:off x="1447920" y="2362320"/>
            <a:ext cx="2819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 semejan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g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bd04887_"/>
          <p:cNvPicPr/>
          <p:nvPr/>
        </p:nvPicPr>
        <p:blipFill>
          <a:blip r:embed="rId1"/>
          <a:stretch/>
        </p:blipFill>
        <p:spPr>
          <a:xfrm>
            <a:off x="1523880" y="2438280"/>
            <a:ext cx="2895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pag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g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g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5" descr="bd04887_"/>
          <p:cNvPicPr/>
          <p:nvPr/>
        </p:nvPicPr>
        <p:blipFill>
          <a:blip r:embed="rId1"/>
          <a:stretch/>
        </p:blipFill>
        <p:spPr>
          <a:xfrm>
            <a:off x="1447920" y="2590920"/>
            <a:ext cx="2895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grup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contr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5" descr="an02122_"/>
          <p:cNvPicPr/>
          <p:nvPr/>
        </p:nvPicPr>
        <p:blipFill>
          <a:blip r:embed="rId1"/>
          <a:stretch/>
        </p:blipFill>
        <p:spPr>
          <a:xfrm>
            <a:off x="1600200" y="2438280"/>
            <a:ext cx="235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contr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6252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ncont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an02122_"/>
          <p:cNvPicPr/>
          <p:nvPr/>
        </p:nvPicPr>
        <p:blipFill>
          <a:blip r:embed="rId1"/>
          <a:stretch/>
        </p:blipFill>
        <p:spPr>
          <a:xfrm>
            <a:off x="1143000" y="2438280"/>
            <a:ext cx="25131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contra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4495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ncontr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contr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a stem-changing verb, but stem-changers in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o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ange in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an02122_"/>
          <p:cNvPicPr/>
          <p:nvPr/>
        </p:nvPicPr>
        <p:blipFill>
          <a:blip r:embed="rId1"/>
          <a:stretch/>
        </p:blipFill>
        <p:spPr>
          <a:xfrm>
            <a:off x="1295280" y="2438280"/>
            <a:ext cx="2664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iousl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y this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enza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5" descr="pe01981_"/>
          <p:cNvPicPr/>
          <p:nvPr/>
        </p:nvPicPr>
        <p:blipFill>
          <a:blip r:embed="rId1"/>
          <a:stretch/>
        </p:blipFill>
        <p:spPr>
          <a:xfrm>
            <a:off x="1523880" y="2362320"/>
            <a:ext cx="2513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zar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omen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5" descr="pe03738_"/>
          <p:cNvPicPr/>
          <p:nvPr/>
        </p:nvPicPr>
        <p:blipFill>
          <a:blip r:embed="rId1"/>
          <a:stretch/>
        </p:blipFill>
        <p:spPr>
          <a:xfrm>
            <a:off x="1523880" y="2514600"/>
            <a:ext cx="24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K, how about the reflexiv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ntarse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bd05555_"/>
          <p:cNvPicPr/>
          <p:nvPr/>
        </p:nvPicPr>
        <p:blipFill>
          <a:blip r:embed="rId1"/>
          <a:stretch/>
        </p:blipFill>
        <p:spPr>
          <a:xfrm>
            <a:off x="1523880" y="2438280"/>
            <a:ext cx="27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 we’re going to learn how to talk about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Spanish.  One way is to talk about an action that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e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finish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the past.  This tense is called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an00010_"/>
          <p:cNvPicPr/>
          <p:nvPr/>
        </p:nvPicPr>
        <p:blipFill>
          <a:blip r:embed="rId1"/>
          <a:stretch/>
        </p:blipFill>
        <p:spPr>
          <a:xfrm>
            <a:off x="1174680" y="2362320"/>
            <a:ext cx="257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ntarse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m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xive verbs change in the very same way.  Just don’t forget the reflexive pronoun before the main ver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5" descr="bd05555_"/>
          <p:cNvPicPr/>
          <p:nvPr/>
        </p:nvPicPr>
        <p:blipFill>
          <a:blip r:embed="rId1"/>
          <a:stretch/>
        </p:blipFill>
        <p:spPr>
          <a:xfrm>
            <a:off x="1017720" y="2362320"/>
            <a:ext cx="2579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–ER &amp;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identical for –er &amp; -i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rr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crib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7" descr="bd05477_"/>
          <p:cNvPicPr/>
          <p:nvPr/>
        </p:nvPicPr>
        <p:blipFill>
          <a:blip r:embed="rId1"/>
          <a:stretch/>
        </p:blipFill>
        <p:spPr>
          <a:xfrm>
            <a:off x="914400" y="272880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ke a closer look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er / -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m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r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very similar, except that the –er/-ir verb ending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tain an –i- and the –ar verb endings never 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5" descr="bd06615_"/>
          <p:cNvPicPr/>
          <p:nvPr/>
        </p:nvPicPr>
        <p:blipFill>
          <a:blip r:embed="rId1"/>
          <a:stretch/>
        </p:blipFill>
        <p:spPr>
          <a:xfrm>
            <a:off x="1371600" y="2819520"/>
            <a:ext cx="2743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5" descr="bd05584_"/>
          <p:cNvPicPr/>
          <p:nvPr/>
        </p:nvPicPr>
        <p:blipFill>
          <a:blip r:embed="rId1"/>
          <a:stretch/>
        </p:blipFill>
        <p:spPr>
          <a:xfrm>
            <a:off x="1477800" y="2362320"/>
            <a:ext cx="233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nd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5" descr="bd05584_"/>
          <p:cNvPicPr/>
          <p:nvPr/>
        </p:nvPicPr>
        <p:blipFill>
          <a:blip r:embed="rId1"/>
          <a:stretch/>
        </p:blipFill>
        <p:spPr>
          <a:xfrm>
            <a:off x="1905120" y="2362320"/>
            <a:ext cx="182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ib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5" descr="so01579_"/>
          <p:cNvPicPr/>
          <p:nvPr/>
        </p:nvPicPr>
        <p:blipFill>
          <a:blip r:embed="rId1"/>
          <a:stretch/>
        </p:blipFill>
        <p:spPr>
          <a:xfrm>
            <a:off x="1676520" y="2514600"/>
            <a:ext cx="2385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ib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bd05560_"/>
          <p:cNvPicPr/>
          <p:nvPr/>
        </p:nvPicPr>
        <p:blipFill>
          <a:blip r:embed="rId1"/>
          <a:stretch/>
        </p:blipFill>
        <p:spPr>
          <a:xfrm>
            <a:off x="1149480" y="2362320"/>
            <a:ext cx="253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ver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 little bit unusual because it does not take accent mark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4" descr="bd06221_"/>
          <p:cNvPicPr/>
          <p:nvPr/>
        </p:nvPicPr>
        <p:blipFill>
          <a:blip r:embed="rId1"/>
          <a:stretch/>
        </p:blipFill>
        <p:spPr>
          <a:xfrm>
            <a:off x="1523880" y="2514600"/>
            <a:ext cx="272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5" descr="pe03254_"/>
          <p:cNvPicPr/>
          <p:nvPr/>
        </p:nvPicPr>
        <p:blipFill>
          <a:blip r:embed="rId1"/>
          <a:stretch/>
        </p:blipFill>
        <p:spPr>
          <a:xfrm>
            <a:off x="1523880" y="2362320"/>
            <a:ext cx="2743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em-changing –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verbs do not change in the preterite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5" descr="pe03254_"/>
          <p:cNvPicPr/>
          <p:nvPr/>
        </p:nvPicPr>
        <p:blipFill>
          <a:blip r:embed="rId1"/>
          <a:stretch/>
        </p:blipFill>
        <p:spPr>
          <a:xfrm>
            <a:off x="1600200" y="2438280"/>
            <a:ext cx="26668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English, a preterite form looks like th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lk &gt; walk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ay &gt; play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y &gt; sa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rive &gt; dro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&gt; was, w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are regular (predictable): play &gt; play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are irregular (unpredictable): go &gt; w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10" descr="C:\Users\708000282\AppData\Local\Microsoft\Windows\Temporary Internet Files\Content.IE5\8CWUNPO1\MC900157109[1].wmf"/>
          <p:cNvPicPr/>
          <p:nvPr/>
        </p:nvPicPr>
        <p:blipFill>
          <a:blip r:embed="rId1"/>
          <a:stretch/>
        </p:blipFill>
        <p:spPr>
          <a:xfrm>
            <a:off x="1171440" y="2819520"/>
            <a:ext cx="3040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stem-changing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 you remember tha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i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erbs are special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nd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because they make a vowel chan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rmir (o &gt; ue) &gt;&gt; d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m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r (e &gt; i) &gt;&gt; s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v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ferir (e &gt; ie) &gt;&gt; pref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ll, guess what?  They change in th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/ellos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5" descr="an00932_"/>
          <p:cNvPicPr/>
          <p:nvPr/>
        </p:nvPicPr>
        <p:blipFill>
          <a:blip r:embed="rId1"/>
          <a:stretch/>
        </p:blipFill>
        <p:spPr>
          <a:xfrm>
            <a:off x="914400" y="2943360"/>
            <a:ext cx="28954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stirse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m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5" descr="bd06634_"/>
          <p:cNvPicPr/>
          <p:nvPr/>
        </p:nvPicPr>
        <p:blipFill>
          <a:blip r:embed="rId1"/>
          <a:stretch/>
        </p:blipFill>
        <p:spPr>
          <a:xfrm>
            <a:off x="1447920" y="2362320"/>
            <a:ext cx="274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75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75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75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75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75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momento, por favo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 are three mo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feri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ref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efir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5" descr="bd05117_"/>
          <p:cNvPicPr/>
          <p:nvPr/>
        </p:nvPicPr>
        <p:blipFill>
          <a:blip r:embed="rId1"/>
          <a:stretch/>
        </p:blipFill>
        <p:spPr>
          <a:xfrm>
            <a:off x="1371600" y="2514600"/>
            <a:ext cx="2971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75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75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75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5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5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75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75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75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______ (llegar) a la oficina a las 8 y ______ (empezar) a trabajar.  Primero, _______ (terminar)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5" descr="bd00005_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lle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la oficina a las 8 y empe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trabajar.  Primero, term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rib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 informe. Luego, pid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4" descr="bd00005_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______ (salir) de casa a las 7,30, ______ (llegar) a la oficina a las 8, y ______ (comenzar) a trabajar.  Primero, _______ (leer)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  Por fin, ________ (ver) a muchas personas y ________ (hablar) con ellas.  _________ (volver) a casa a las 4,3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5" descr="bd06126_"/>
          <p:cNvPicPr/>
          <p:nvPr/>
        </p:nvPicPr>
        <p:blipFill>
          <a:blip r:embed="rId1"/>
          <a:stretch/>
        </p:blipFill>
        <p:spPr>
          <a:xfrm>
            <a:off x="1371600" y="24382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al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 casa a las 7,30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leg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la oficina a las 8,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menz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trabajar.  Primer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e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scrib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n informe. Lueg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ped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l almuerzo.  Por fin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muchas personas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abl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 ellas. 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ol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casa a las 4,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5" descr="bd05380_"/>
          <p:cNvPicPr/>
          <p:nvPr/>
        </p:nvPicPr>
        <p:blipFill>
          <a:blip r:embed="rId1"/>
          <a:stretch/>
        </p:blipFill>
        <p:spPr>
          <a:xfrm>
            <a:off x="1676520" y="2438280"/>
            <a:ext cx="2590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t’s all, folk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you are ready to work o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r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terite forms in verb set #1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4" descr="porky2"/>
          <p:cNvPicPr/>
          <p:nvPr/>
        </p:nvPicPr>
        <p:blipFill>
          <a:blip r:embed="rId1"/>
          <a:stretch/>
        </p:blipFill>
        <p:spPr>
          <a:xfrm>
            <a:off x="1380960" y="2362320"/>
            <a:ext cx="2988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is presentation, we’ll look at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 e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’s a typical o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bd04956_"/>
          <p:cNvPicPr/>
          <p:nvPr/>
        </p:nvPicPr>
        <p:blipFill>
          <a:blip r:embed="rId1"/>
          <a:stretch/>
        </p:blipFill>
        <p:spPr>
          <a:xfrm>
            <a:off x="914400" y="2895480"/>
            <a:ext cx="2971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for –AR verbs ar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tice the accent marks o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s.  They are very important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lso notice that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 is the same in both the present and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bs02064_"/>
          <p:cNvPicPr/>
          <p:nvPr/>
        </p:nvPicPr>
        <p:blipFill>
          <a:blip r:embed="rId1"/>
          <a:stretch/>
        </p:blipFill>
        <p:spPr>
          <a:xfrm>
            <a:off x="1000080" y="2362320"/>
            <a:ext cx="2581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146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708000282\AppData\Local\Microsoft\Windows\Temporary Internet Files\Content.IE5\YW3SK8B1\MP900442235[1].jpg"/>
          <p:cNvPicPr/>
          <p:nvPr/>
        </p:nvPicPr>
        <p:blipFill>
          <a:blip r:embed="rId4"/>
          <a:stretch/>
        </p:blipFill>
        <p:spPr>
          <a:xfrm>
            <a:off x="1476360" y="23623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55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r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8" descr="C:\Users\708000282\AppData\Local\Microsoft\Windows\Temporary Internet Files\Content.IE5\7XZGNAI3\MC900440391[1].png"/>
          <p:cNvPicPr/>
          <p:nvPr/>
        </p:nvPicPr>
        <p:blipFill>
          <a:blip r:embed="rId1"/>
          <a:stretch/>
        </p:blipFill>
        <p:spPr>
          <a:xfrm>
            <a:off x="1447920" y="2700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5" descr="bd05569_"/>
          <p:cNvPicPr/>
          <p:nvPr/>
        </p:nvPicPr>
        <p:blipFill>
          <a:blip r:embed="rId1"/>
          <a:stretch/>
        </p:blipFill>
        <p:spPr>
          <a:xfrm>
            <a:off x="1295280" y="2362320"/>
            <a:ext cx="31132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yud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yud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5" descr="bd05569_"/>
          <p:cNvPicPr/>
          <p:nvPr/>
        </p:nvPicPr>
        <p:blipFill>
          <a:blip r:embed="rId1"/>
          <a:stretch/>
        </p:blipFill>
        <p:spPr>
          <a:xfrm>
            <a:off x="1003320" y="2362320"/>
            <a:ext cx="29592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1:31:30Z</dcterms:created>
  <dc:creator>test</dc:creator>
  <dc:description/>
  <dc:language>en-US</dc:language>
  <cp:lastModifiedBy>Windows User</cp:lastModifiedBy>
  <dcterms:modified xsi:type="dcterms:W3CDTF">2014-10-22T19:56:25Z</dcterms:modified>
  <cp:revision>17</cp:revision>
  <dc:subject/>
  <dc:title>Preterite</dc:title>
</cp:coreProperties>
</file>